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A2E-3E58-4DB9-8C0F-67D6ED72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2E5-FEF5-49D4-9492-40EBE6F6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A5B-8FA8-43EB-978C-DEBC73F0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225-6F2E-4A25-B069-5C488E27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9EF-3219-40F6-9A2B-0902AA11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346F-1384-4D63-AA7B-AD438C28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CE33-BBB6-4E01-8F7E-B96CF95E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17BB-35E0-4CEA-BE78-C674418C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E99-3D2C-4BB5-903C-5DE71FF1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BFD9-1C05-4543-A28A-F16ABA63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400C-EE16-42A5-A97E-39FD6B6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A18-470C-4D53-B936-A7A39E9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08A-24DC-4E81-A0BE-21EE6C9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A06B-DCB9-4086-BC3B-A7743F5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438C-4FB5-49B0-BD53-B0FA9BDD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7F92-3FC6-4822-B24E-1542DFD9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7764-0A8D-45E8-8A3B-52D918EC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C516-3A3E-4B69-8FF9-97B64B0C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40DF-8113-469A-BF0B-697BFAA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38A6-2A9F-4C5A-9B47-20239B2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B9F1-28F5-455F-839C-8970CE1B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CA88-1BEF-4443-A397-0C44E40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DD5-0E8A-4D98-B632-28B1C40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E5B0-41C1-4282-9EB2-27870EF7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82CD-B23E-414F-A690-C69C7EE4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673B0-A053-46CF-9E20-652C57E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67D1-D051-4228-B235-A31846C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A153-3082-4E09-B576-5C1503E0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13CC-3204-4C71-BA60-0107C1D0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7A1E-6A73-465F-BC21-A74D5AEC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1C36-D36F-4186-A888-96A43B1B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805B2-C073-443A-B983-39FFE075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1C64-D108-4772-AF14-36593F61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874-455E-4750-822B-7EE81F5E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C16B-E660-45CC-AD27-2C447E7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5728-FA90-4521-A4C6-AD7586AF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641F-CAA5-4EDD-B4A5-DEA1947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F23AA-3E8E-4021-825F-BF5C386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2816-198D-4000-A701-1C36E83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E19A-B995-44B9-887B-873957C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4F3A-5ADE-4578-BF0D-F80398E7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3A39F-8C17-4083-B5A8-45C70950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EEAE-AD28-477A-8C2C-84DC75C2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4901F-643F-4BA3-9A79-167C747B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F44-AE89-4185-8FBB-B71559F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91BF8-0259-405A-B96A-80FED5C0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19105-F009-4F69-8375-654CAAFB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1C37-BB60-40AE-B189-9A4B722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6F3A-3751-4956-BED5-1B40861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7DDF-4106-4C71-920F-C59CC0EE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C52E7-A7A6-447C-8BC4-5AE0E87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3DC39-95B3-4F76-B0FD-4045F127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53DB-3F53-4034-8EC4-210AD04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19783-F59D-4FE1-B422-F905B49B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A4B34-EC19-41CF-9352-BDB4B79F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D3B5-513E-4ADD-9384-A99453E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35A7-282B-43F7-A635-B1287F30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5B0-EAF9-4C3E-8F09-7239C377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8261-7188-49DC-A7A9-F9D2ED56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E5E-54FA-4204-BEC7-C407617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D71-53FD-4166-AB14-D098586F80AA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FB6-AA4D-4088-A4F7-DD71FB1F107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8E32-2D5B-4F91-92E1-44F520385980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67B4-95A0-4C93-8F6C-51C90271E59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3C6-DE72-42CD-B6C3-E8560DC8E425}" type="slidenum">
              <a:rPr b="0" lang="en-US" sz="11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8162640" cy="1481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1908-197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uewb_09_img0631.jpg"/>
          <p:cNvPicPr/>
          <p:nvPr/>
        </p:nvPicPr>
        <p:blipFill>
          <a:blip r:embed="rId2"/>
          <a:stretch/>
        </p:blipFill>
        <p:spPr>
          <a:xfrm>
            <a:off x="3048120" y="1828800"/>
            <a:ext cx="2819160" cy="34369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914400" y="54864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f you saw a dog going to be crushed under a car, wouldn’t you help him?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04920" y="16765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Director: Steven Spielbe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Schindler was played by Liam Nees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Released December 15, 1993 (USA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Tagline: Whoever saves one life, saves the world enti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on 7 Oscars, another 63 wins and 21 nomin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Content Placeholder 4" descr="3082759152_6d306f1286.jpg"/>
          <p:cNvPicPr/>
          <p:nvPr/>
        </p:nvPicPr>
        <p:blipFill>
          <a:blip r:embed="rId2"/>
          <a:stretch/>
        </p:blipFill>
        <p:spPr>
          <a:xfrm>
            <a:off x="4876920" y="1600200"/>
            <a:ext cx="1834920" cy="2217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hindler1_web.jpg"/>
          <p:cNvPicPr/>
          <p:nvPr/>
        </p:nvPicPr>
        <p:blipFill>
          <a:blip r:embed="rId3"/>
          <a:stretch/>
        </p:blipFill>
        <p:spPr>
          <a:xfrm>
            <a:off x="6781680" y="1600200"/>
            <a:ext cx="1528920" cy="2209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373503_3.jpg"/>
          <p:cNvPicPr/>
          <p:nvPr/>
        </p:nvPicPr>
        <p:blipFill>
          <a:blip r:embed="rId4"/>
          <a:stretch/>
        </p:blipFill>
        <p:spPr>
          <a:xfrm>
            <a:off x="5867280" y="3886200"/>
            <a:ext cx="16765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676520" y="18288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jewishvirtuallibrary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ushmm.or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notablebiographies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oskarschindler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ww.imdb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609120" y="1752480"/>
            <a:ext cx="7620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Ethnic Germ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Born on April 28, 1908 in Zwittau, Austria-Hunga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Catholic; had two childhood friends that were Jewis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Very sinful; womanizing, gambling, money-hung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Father: Hans Schindler was a business own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Mother: Louise Schindler was a homemak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Sister: Elfriede was very close to Osk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Married Emilie at 20 which severed his relationship with his fa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3" descr="200.jpg"/>
          <p:cNvPicPr/>
          <p:nvPr/>
        </p:nvPicPr>
        <p:blipFill>
          <a:blip r:embed="rId2"/>
          <a:stretch/>
        </p:blipFill>
        <p:spPr>
          <a:xfrm>
            <a:off x="3809880" y="4419720"/>
            <a:ext cx="16765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609120" y="152388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Schindler used the war as an opportunity to make a fortu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He followed the SS into Poland and became friends with leaders of the Gestap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Medium ITC"/>
              </a:rPr>
              <a:t>Operated a factory that created enamel kitchenware and hired Jews since they were the cheapest labor; started to earn a lot of money by supplying Hitler’s arm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3" descr="factory460.jpg"/>
          <p:cNvPicPr/>
          <p:nvPr/>
        </p:nvPicPr>
        <p:blipFill>
          <a:blip r:embed="rId2"/>
          <a:stretch/>
        </p:blipFill>
        <p:spPr>
          <a:xfrm>
            <a:off x="2590920" y="403848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599840"/>
            <a:ext cx="7696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In June, 1942, the Nazis were relocating the Jews in the Krakow ghetto where Schindler’s factory was being ru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Schindler bribed and threatened an SS soldier and stated that his workers were “essential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Liquidation of the Krakow ghetto began early in 1943 but Schindler again bribed Amon Goeth, who was in charge of the process, to set up a mini camp within the ghetto for Schindler’s Jewish work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128520" y="317520"/>
            <a:ext cx="75772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523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Nazis decided to send all the Jews in the Krakow Ghetto to death ca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Schindler bribed Goeth with the idea of moving his factory to Czechoslavakia to supply the Third Reich with vital war suppl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Schindler came up with about 1,200 names of Jewish workers he would take with hi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Medium ITC"/>
              </a:rPr>
              <a:t>In the first seven months of the factory’s operation, the workers never produced a single useful shell (Schindler called it “start-up difficulties” when in reality he purposefully weakened the factory’s manufacturing proces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762012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War ended on May 8, 1945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apologized to his workers for what was done to them and asked them not to seek reveng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went bankrupt by 1957 due to overspending, drinking, and gambling; he relied on the Jewish organization B’nai B’rith for funds to surviv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Schindler left his wife in 1958 and went to West Germany where he was looked down upon by his neighbors for helping Jews; lived on retirement money and funds from the Schindlerjuden (Schindler’s Jews)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Eras Medium ITC"/>
              </a:rPr>
              <a:t>Went to Israel and was greeted with open arms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6840" y="15235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When he turned 54, Schindler was declared a “Righteous Gentile (non-Jew)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Eras Medium ITC"/>
              </a:rPr>
              <a:t>He planted a tree on the Avenue of the Righteous which leads up to Jerusalem’s Yad Vashem Museum (Holocaust memorial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18.jpg"/>
          <p:cNvPicPr/>
          <p:nvPr/>
        </p:nvPicPr>
        <p:blipFill>
          <a:blip r:embed="rId2"/>
          <a:stretch/>
        </p:blipFill>
        <p:spPr>
          <a:xfrm>
            <a:off x="1523880" y="403848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SchindlertreeatAveofRighteous_800.jpg"/>
          <p:cNvPicPr/>
          <p:nvPr/>
        </p:nvPicPr>
        <p:blipFill>
          <a:blip r:embed="rId3"/>
          <a:stretch/>
        </p:blipFill>
        <p:spPr>
          <a:xfrm>
            <a:off x="6095880" y="1676520"/>
            <a:ext cx="2568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7521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Died of heart and liver problems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Buried in a Catholic cemetery on Mount Zion in Isra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Eras Medium ITC"/>
              </a:rPr>
              <a:t>Over 500 Schindlerjuden attended his funer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Content Placeholder 4" descr="oskar_Schindler.jpg"/>
          <p:cNvPicPr/>
          <p:nvPr/>
        </p:nvPicPr>
        <p:blipFill>
          <a:blip r:embed="rId2"/>
          <a:stretch/>
        </p:blipFill>
        <p:spPr>
          <a:xfrm>
            <a:off x="5867280" y="160020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MG_0197[1].jpg"/>
          <p:cNvPicPr/>
          <p:nvPr/>
        </p:nvPicPr>
        <p:blipFill>
          <a:blip r:embed="rId3"/>
          <a:stretch/>
        </p:blipFill>
        <p:spPr>
          <a:xfrm>
            <a:off x="0" y="4521240"/>
            <a:ext cx="17524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6840" y="1523880"/>
            <a:ext cx="4419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Medium ITC"/>
              </a:rPr>
              <a:t>In the 1990s there were over 6,000 Holocaust survivors and their descendents alive who were alive because of Oskar Schind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4419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Eras Medium ITC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Eras Medium ITC"/>
              </a:rPr>
              <a:t>I hated the brutality, the sadism, and the insanity of Nazism. I just couldn’t stand by and see people destroyed. I did what I could, what I had to do, what my conscience told me I must do. That’s all there is to it. Really, nothing more.”  -Oskar Schindl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03411.jpg"/>
          <p:cNvPicPr/>
          <p:nvPr/>
        </p:nvPicPr>
        <p:blipFill>
          <a:blip r:embed="rId2"/>
          <a:stretch/>
        </p:blipFill>
        <p:spPr>
          <a:xfrm>
            <a:off x="4952880" y="17524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4:34:24Z</dcterms:created>
  <dc:creator>7398</dc:creator>
  <dc:description/>
  <dc:language>en-US</dc:language>
  <cp:lastModifiedBy> </cp:lastModifiedBy>
  <dcterms:modified xsi:type="dcterms:W3CDTF">2009-11-24T17:01:29Z</dcterms:modified>
  <cp:revision>16</cp:revision>
  <dc:subject/>
  <dc:title>Oskar Schindler </dc:title>
</cp:coreProperties>
</file>